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EF0-7476-477F-BC35-35BAF24A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FE6-9CE3-41E5-9FCD-BF8FD4E6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7E4-D266-4659-9541-01F63CA6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6F7-ED9C-49A1-A230-A3277A92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5F55-73F1-474F-98A0-7F8FC5BC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48F0-02C0-4DFB-9466-26297789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B21F-FA2E-45F8-9F1D-2FCEAE08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4CC3-67C4-4201-BCCD-1B3CE405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6F45-0E48-42DE-8E08-3C2541FD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D8B1-2FB0-4D31-936A-807D4D20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BC73-BDE1-4AF5-A3B4-C3027D74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174-BC46-41F7-96D9-65BE21E1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BF66-FB9D-4709-A480-8AD72858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C841-ABCA-4D90-ACFF-FBA4C82F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2FF6-44E0-4AA4-89EE-8E2C1464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0DE4-3B95-463E-9AA1-97F8EE9E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ACAB-891B-444A-900F-BB60456B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D757-10D3-4B7E-AB7C-B31A2A4D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0CC8-ABF7-449D-816C-FE560DF3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441D-EB15-49A3-99B2-4ABFA04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90B9-BEFF-4209-B14E-4053BD89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F1F6-AA4A-4F7C-97E8-947B7765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863-526E-486D-8478-B985F4AD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54F4-400D-48F2-9CB7-080F55A8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CB68-E520-467B-9222-B9D39823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7700-D4B0-4DFD-8F7A-0A3EA187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8C69-99AC-4CD0-A9A7-ADA5D185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BCCD-8985-4521-B190-5C1B1368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56A0-C8A5-4AC8-A70F-7501FFDE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CAB6-A81B-4609-979C-0F3F054D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87E3A-AFCA-4BA2-8EEA-139505E9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2AA14-F0CF-491E-8180-A028C098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53FCC-D104-4B8E-AABF-11D96FF8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D71-204D-49F9-A85A-BF7AA816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DED69-BC42-457B-BFDC-B1D07141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8C1D-8A12-4EDE-BA70-42C4CE9D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66BA-F028-49C5-97C7-C7E297FA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993C-F6E4-4FB7-BD8D-88DC8FDE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8E4CC-1890-45CB-8455-5AE72C80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CAE1B-C316-4529-AE29-401567BF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478C-2600-460F-BB0C-4B29F2CD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0A6D2-59B3-4CF2-B930-ED8CB64E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BA52-8DCA-4D3A-B35A-799E3458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60B51-F0F3-4C75-B58E-E19B699E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76F-BA73-42EA-BA78-E41E37E0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B7D9C-5CEC-4FD4-A354-29E66BF3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781E2-A5A4-4FB2-98F6-EB8D6E11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B9996-A440-4BFA-B683-50C3A1A5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55A55-1038-4868-8FD4-00549474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302F-2CBE-4127-88AE-12FEE51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C1AAE-2198-4594-8783-0F4FD548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C109B-3F6E-4568-946B-2A6E446D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FB01B-5A0F-4E30-8872-39163E53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D941E-71D1-438C-949B-2EF2B1D1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9E27C-4C5F-41AA-8FE2-F7796DC3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80C-AA7E-4F1F-BEC9-5E75646C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F9639-D7CF-443F-BB8B-E95FFB0C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4489C-80CF-4159-AB46-8C3A1281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3326-EF67-4DE3-8C71-5982CF3A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211CF-6D9B-4D9D-83EF-E11EDB8A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14880-C3BB-4A32-AE54-87A48943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3F320-37D6-49CD-9A8E-9DE19C48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4942F-C3EC-4B89-B4CF-4606C126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C9D74-8205-456A-BA81-E6A34848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679B9-3E4A-49FD-AE45-BD53733B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B5655-A464-4A2E-855E-34A98669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643-08CB-4D6F-9EAF-E0A7BDB8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ADCE5-2B17-415C-91A3-AAEFD5A4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37948-6186-44D8-A331-EA5ADB10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2FFCE-380A-4118-A29D-CF2D8D90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8C954-89A6-4A17-90E2-1558E2C4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83C55-CA68-4C29-BD00-6778657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F732D-D9BF-4EB5-B94B-9877E92C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A6513-6496-449F-B964-C04C2984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9F710-DCD8-42C4-99D9-9F1C1FA7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0B438-4A3E-407A-A327-5A43A5D3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11810-4E83-4BF3-8C56-1C48CB2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8F3-F49B-4726-92DF-876A5426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A904C-6D00-4CB9-93B3-71E8EF5D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CECF-11CE-4848-BB2A-DA94EE70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75E85-04BD-44B7-9E7A-E779F1F2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3909A-46F9-459E-ACC7-0A45BFD3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685CE-F04A-47AA-96DF-5B51F185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9DC-25F3-4A73-9494-333FA240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3505-26F6-4428-8A1F-3BBDD57D9C30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677C-6A59-47A4-BF6B-3EDA7CD30CE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5139-8B65-4D31-99A2-3E46D7FACD55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482B-A716-4657-A935-A1B15EBF6E4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8A84-D463-4CBE-A8A8-2BE28B5606B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E48-2BAC-466D-8566-B90DEEED3B2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A442-DB78-432C-A0BF-11A1BAD6021B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.uk/imgres?imgurl=http://images.fanpop.com/images/image_uploads/Will---Grace-will--26-grace-146358_1024_768.jpg&amp;imgrefurl=http://www.fanpop.com/spots/will-and-grace/images/146358&amp;usg=__OVsUJy50cixedaIQexuRjD7-oFs=&amp;h=768&amp;w=1024&amp;sz=71&amp;hl=en&amp;start=1&amp;zoom=1&amp;um=1&amp;itbs=1&amp;tbnid=AY5dfaPMH6LhnM:&amp;tbnh=113&amp;tbnw=150&amp;prev=/images%3Fq%3Dwill%2Band%2Bgrace%26um%3D1%26hl%3Den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imgres?imgurl=http://blog.ctnews.com/meyers/files/2010/08/mcmurtry3.jpg&amp;imgrefurl=http://blog.ctnews.com/meyers/2010/08/07/%25E2%2580%2598hollywood%25E2%2580%2599-larry-mcmurtry-from-%25E2%2580%2598hud%25E2%2580%2599-to-%25E2%2580%2598brokeback-mountain%25E2%2580%2599/&amp;usg=__DWFpl_Lz_r4YOhzNdQttOwEHqTs=&amp;h=459&amp;w=700&amp;sz=42&amp;hl=en&amp;start=1&amp;zoom=1&amp;um=1&amp;itbs=1&amp;tbnid=kLdQcI05weONHM:&amp;tbnh=92&amp;tbnw=140&amp;prev=/images%3Fq%3Dbrokeback%2Bmountain%26um%3D1%26hl%3Den%26tbs%3Disch: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.uk/imgres?imgurl=http://joshandjosh.typepad.com/josh_josh_are_rich_and_fa/images/2007/11/20/queer_as_folk_justin_brian_kiss_399.jpg&amp;imgrefurl=http://joshandjosh.typepad.com/josh_josh_are_rich_and_fa/television/&amp;usg=__ddEjsZQSxqyXSvpOjMnUI4LWjHY=&amp;h=289&amp;w=399&amp;sz=78&amp;hl=en&amp;start=6&amp;zoom=1&amp;um=1&amp;itbs=1&amp;tbnid=gbUsy3w8hV9VHM:&amp;tbnh=90&amp;tbnw=124&amp;prev=/images%3Fq%3Dqueer%2Bas%2Bfolk%26um%3D1%26hl%3Den%26tbs%3Disch:1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co.uk/imgres?imgurl=http://i.ytimg.com/vi/5plY921aAKQ/hqdefault.jpg&amp;imgrefurl=http://www.ranker.com/list/-tv_s-almost-gay-couples/artsenyc%3Fformat%3DGRID&amp;usg=__n9jJ4uX4nUjsQUUuiojag8P6Uuc=&amp;h=360&amp;w=480&amp;sz=14&amp;hl=en&amp;start=17&amp;zoom=1&amp;um=1&amp;itbs=1&amp;tbnid=iBNOyL6uff4EiM:&amp;tbnh=97&amp;tbnw=129&amp;prev=/images%3Fq%3Djoey%2Band%2Bchandler%26um%3D1%26hl%3Den%26tbs%3Disch:1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google.co.uk/imgres?imgurl=http://www.midnightpoutine.ca/archives/SugarRush.jpg&amp;imgrefurl=http://www.midnightpoutine.ca/film/2007/11/image_nation_voix_de_lavenir/&amp;usg=__nAwg76Z2LbYgs19L4ZMsh7pMS1Q=&amp;h=302&amp;w=249&amp;sz=23&amp;hl=en&amp;start=6&amp;zoom=1&amp;um=1&amp;itbs=1&amp;tbnid=pkzvRYUsTKCBhM:&amp;tbnh=116&amp;tbnw=96&amp;prev=/images%3Fq%3Dsugar%2Brush%26um%3D1%26hl%3Den%26tbs%3Disch:1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blog.ctnews.com/meyers/files/2010/08/mcmurtry3.jpg&amp;imgrefurl=http://blog.ctnews.com/meyers/2010/08/07/%25E2%2580%2598hollywood%25E2%2580%2599-larry-mcmurtry-from-%25E2%2580%2598hud%25E2%2580%2599-to-%25E2%2580%2598brokeback-mountain%25E2%2580%2599/&amp;usg=__DWFpl_Lz_r4YOhzNdQttOwEHqTs=&amp;h=459&amp;w=700&amp;sz=42&amp;hl=en&amp;start=1&amp;zoom=1&amp;itbs=1&amp;tbnid=kLdQcI05weONHM:&amp;tbnh=92&amp;tbnw=140&amp;prev=/images%3Fq%3Dbrokeback%2Bmountain%26hl%3Den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i.telegraph.co.uk/telegraph/multimedia/archive/01071/health-graphics-20_1071862a.jpg&amp;imgrefurl=http://www.telegraph.co.uk/health/men_shealth/3348864/Pillow-Talk.html&amp;usg=__CAc6ue4cHOfxp-gwXaqwTDUlaIU=&amp;h=440&amp;w=300&amp;sz=25&amp;hl=en&amp;start=16&amp;zoom=1&amp;itbs=1&amp;tbnid=qj0X6VwMSi2q9M:&amp;tbnh=127&amp;tbnw=87&amp;prev=/images%3Fq%3Dgraham%2Bnorton%2Bfairy%26hl%3Den%26gbv%3D2%26tbs%3Disch:1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.uk/imgres?imgurl=http://www.lisa-faye.com/content/uploads/2010/08/paul-ogrady.jpg&amp;imgrefurl=http://www.lisa-faye.com/2010/08/16/paul-ogrady-promotes-streisand-the-concert/&amp;usg=__6mZOBs1sRA0joUnowSGKCC2ZULU=&amp;h=258&amp;w=258&amp;sz=15&amp;hl=en&amp;start=1&amp;zoom=1&amp;itbs=1&amp;tbnid=-Zb6cBstHw4GxM:&amp;tbnh=112&amp;tbnw=112&amp;prev=/images%3Fq%3Dpaul%2Bo%2Bgrady%26hl%3Den%26gbv%3D2%26tbs%3Disch:1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h-online.nl/dvd-will-%26-grace-1.jpg&amp;imgrefurl=http://apps.facebook.com/allmyquotes/directory.php%3Fref%3Ddirectory%26from%3D1080%26to%3D1120%26app%3D202642&amp;usg=__NbrrDqE68oAvdcTAjKnZD11aGis=&amp;h=300&amp;w=567&amp;sz=36&amp;hl=en&amp;start=15&amp;zoom=1&amp;itbs=1&amp;tbnid=mk6jHMJOF-Lt_M:&amp;tbnh=71&amp;tbnw=134&amp;prev=/images%3Fq%3Dwill%2Band%2Bgrace%26hl%3Den%26gbv%3D2%26tbs%3Disch:1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o.uk/imgres?imgurl=http://www.post-gazette.com/images4/20060517ho_WillGrace_450.jpg&amp;imgrefurl=http://www.movietome.com/users/Jacky1989/show_blog_entry.php%3Ftopic_id%3Dm-100-25502389&amp;usg=__DJ1EacRuDJnIHjE5byI7zASRvgs=&amp;h=422&amp;w=450&amp;sz=49&amp;hl=en&amp;start=14&amp;zoom=1&amp;itbs=1&amp;tbnid=d_1knigGRJ1--M:&amp;tbnh=119&amp;tbnw=127&amp;prev=/images%3Fq%3Dwill%2Band%2Bgrace%26hl%3Den%26gbv%3D2%26tbs%3Disch:1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co.uk/imgres?imgurl=http://ugandaninsomniac.files.wordpress.com/2008/08/russell-brand.jpg&amp;imgrefurl=http://ugandaninsomniac.wordpress.com/2008/08/02/whos-a-pretty-boy-then/&amp;usg=__Pxxg0ZDgKYyVTGBtfTFqJ6Xe2Ds=&amp;h=390&amp;w=280&amp;sz=34&amp;hl=en&amp;start=11&amp;zoom=1&amp;itbs=1&amp;tbnid=vQLSJeHnr1wgnM:&amp;tbnh=123&amp;tbnw=88&amp;prev=/images%3Fq%3Drussell%2Bbrand%2Beyeliner%26hl%3Den%26gbv%3D2%26tbs%3Disch:1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google.co.uk/imgres?imgurl=http://userserve-ak.last.fm/serve/_/30489819/Noel%2BFielding%2Bnoelfielding.jpg&amp;imgrefurl=http://www.last.fm/music/Noel%2BFielding/%2Bimages/30489819&amp;usg=__WrtlHvY1yPKtFiLXtHRrHK2QSu4=&amp;h=390&amp;w=280&amp;sz=24&amp;hl=en&amp;start=5&amp;zoom=1&amp;itbs=1&amp;tbnid=WBdaHW-J63SH9M:&amp;tbnh=123&amp;tbnw=88&amp;prev=/images%3Fq%3Dnoel%2Bfielding%26hl%3Den%26gbv%3D2%26tbs%3Disch: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sachafrey.files.wordpress.com/2009/11/butler11.gif&amp;imgrefurl=http://sachafrey.wordpress.com/2009/11/03/judith-butler-redux/&amp;usg=__WDbw5vK2JmS6JLCdgg_YVBuTu_U=&amp;h=300&amp;w=300&amp;sz=41&amp;hl=en&amp;start=1&amp;zoom=1&amp;itbs=1&amp;tbnid=FCE3kkNeP1JevM:&amp;tbnh=116&amp;tbnw=116&amp;prev=/images%3Fq%3Djudith%2Bbutler%26hl%3Den%26gbv%3D2%26tbs%3Disch: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starsjournal.com/wp-content/uploads/2008/07/joss-stone.jpg&amp;imgrefurl=http://www.starsjournal.com/1195/is-joss-stone-dating-nelly.html&amp;usg=__7Oev9F_Z7eTor-ul1HeXf48yxhQ=&amp;h=480&amp;w=368&amp;sz=65&amp;hl=en&amp;start=11&amp;zoom=1&amp;itbs=1&amp;tbnid=95OMvRbJBcJpJM:&amp;tbnh=129&amp;tbnw=99&amp;prev=/images%3Fq%3Djoss%2Bstone%26hl%3Den%26safe%3Dactive%26gbv%3D2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.uk/imgres?imgurl=http://starjerk.com/wp-content/uploads/2010/10/amy-winehouse.jpg&amp;imgrefurl=http://starjerk.com/celebrities/amy-winehouse/&amp;usg=__i-j1QivjK54ZDMwpnl2zFTinlI8=&amp;h=400&amp;w=300&amp;sz=42&amp;hl=en&amp;start=2&amp;zoom=1&amp;itbs=1&amp;tbnid=5ZRbi-XPZXw_rM:&amp;tbnh=124&amp;tbnw=93&amp;prev=/images%3Fq%3Damy%2Bwinehouse%2Btattoos%26hl%3Den%26safe%3Dactive%26gbv%3D2%26tbs%3Disch: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1.bp.blogspot.com/_XBS3sASwLlc/TITbPXnpPOI/AAAAAAAAAJM/Yj1BJIrXcBs/s1600/Batman-and-Robin.jpg&amp;imgrefurl=http://classicpopculture.blogspot.com/&amp;usg=__V3WlkUjstP-jOHmcbED9p-gjPHQ=&amp;h=320&amp;w=400&amp;sz=47&amp;hl=en&amp;start=4&amp;zoom=1&amp;itbs=1&amp;tbnid=atWWjN0_K9MLtM:&amp;tbnh=99&amp;tbnw=124&amp;prev=/images%3Fq%3Dbatman%2Band%2Brobin%26hl%3Den%26gbv%3D2%26tbs%3Disch: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en.wikipedia.org/wiki/File:Batbed.png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frasieronline.co.uk/gallery/albums/userpics/10490/normal_frasier_show_5.jpg&amp;imgrefurl=http://www.xiongdudu.com/photo/Frasier&amp;usg=__l7XJGu4Ubrbu2QrRcx_TC13lX-8=&amp;h=400&amp;w=328&amp;sz=33&amp;hl=en&amp;start=9&amp;zoom=1&amp;itbs=1&amp;tbnid=lUx0RD4ruOhmyM:&amp;tbnh=124&amp;tbnw=102&amp;prev=/images%3Fq%3Dfrasier%26hl%3Den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.uk/imgres?imgurl=http://c2.api.ning.com/files/toPZYMNmtz0KSvdVcozyl4scTD9OJbFBGV-DnyV9*FOLELUcJmLioWWuVH7sdQM-cKfBKYLHJeGFoXBIFCoPmT8D6g3UUC31/friends.jpg&amp;imgrefurl=http://www.sodahead.com/entertainment/whos-your-favorite-in-the-show-friends/question-826057/&amp;usg=___J-jgC-aH2RDF-IlqbLmI6S9L_k=&amp;h=528&amp;w=396&amp;sz=42&amp;hl=en&amp;start=3&amp;zoom=1&amp;itbs=1&amp;tbnid=ZnaGTt20WCtkpM:&amp;tbnh=132&amp;tbnw=99&amp;prev=/images%3Fq%3Djoey%2Band%2Bchandler%26hl%3Den%26gbv%3D2%26tbs%3Disch: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1.bp.blogspot.com/_CEEU2PTkVq0/TI3e0jVXkuI/AAAAAAAAB28/qoZsPzU1rYE/s1600/queer-as-folk-season-four.jpg&amp;imgrefurl=http://blameitontherainbro.blogspot.com/2010/09/anything-goes-but-dont-blink-you-might.html&amp;usg=__cqpo5-iqu6vkhuIMOGUhZSFAmHw=&amp;h=500&amp;w=355&amp;sz=61&amp;hl=en&amp;start=3&amp;zoom=1&amp;itbs=1&amp;tbnid=0WO5OCetw86NOM:&amp;tbnh=130&amp;tbnw=92&amp;prev=/images%3Fq%3Dqueer%2Bas%2Bfolk%26hl%3Den%26gbv%3D2%26tbs%3Disch: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80960" y="4133880"/>
            <a:ext cx="8212320" cy="21938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rbel"/>
              </a:rPr>
              <a:t>A Level Media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5" descr="http://t1.gstatic.com/images?q=tbn:AY5dfaPMH6LhnM:http://images.fanpop.com/images/image_uploads/Will---Grace-will--26-grace-146358_1024_76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2200" y="549360"/>
            <a:ext cx="2006640" cy="1511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http://t0.gstatic.com/images?q=tbn:kLdQcI05weONHM:http://blog.ctnews.com/meyers/files/2010/08/mcmurtry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1628640"/>
            <a:ext cx="2411280" cy="15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http://t0.gstatic.com/images?q=tbn:gbUsy3w8hV9VHM:http://joshandjosh.typepad.com/josh_josh_are_rich_and_fa/images/2007/11/20/queer_as_folk_justin_brian_kiss_399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2060640"/>
            <a:ext cx="1687680" cy="1224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http://t2.gstatic.com/images?q=tbn:iBNOyL6uff4EiM:http://i.ytimg.com/vi/5plY921aAKQ/hqdefault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05600" y="3213000"/>
            <a:ext cx="1819440" cy="1368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3" descr="http://t3.gstatic.com/images?q=tbn:pkzvRYUsTKCBhM:http://www.midnightpoutine.ca/archives/SugarRush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292720" y="189000"/>
            <a:ext cx="12016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Brokeback Mountain (2006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Success of this Hollywood film an indication of more progressive attitudes to homosexualit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For some, the film challenges two quintessential traditional images of American masculinity – the cowboy and the ‘fishing trip’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However, it can also be suggested that the homosexual relationship portrayed here is represented as tragic – a long way from the idealised heterosexual relationships in mainstream Hollywood film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As the film is set in the 1950s, some would also argue that this suggests issues of homophobia belong in the past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7" name="Picture 2" descr="http://t0.gstatic.com/images?q=tbn:kLdQcI05weONHM:http://blog.ctnews.com/meyers/files/2010/08/mcmurtry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0560" y="0"/>
            <a:ext cx="13334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Cam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volves an exaggerated performance of feminin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Emphasis on style, image, irreverence and breaking tabo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 camp style draws attention to how masculinity is construct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Challenges the traditional notions of masculin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0" name="Picture 2" descr="http://t3.gstatic.com/images?q=tbn:qj0X6VwMSi2q9M:http://i.telegraph.co.uk/telegraph/multimedia/archive/01071/health-graphics-20_1071862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91640" y="5176800"/>
            <a:ext cx="1152360" cy="1681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http://t2.gstatic.com/images?q=tbn:-Zb6cBstHw4GxM:http://www.lisa-faye.com/content/uploads/2010/08/paul-ograd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31000" y="0"/>
            <a:ext cx="1413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ill and Gra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4000" y="1484280"/>
            <a:ext cx="800244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n indication of changing attitudes to homosexualit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ntains a number of overtly gay cultural referenc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However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though Jack is portrayed as camp, Will spends much of the time ‘playing straight’ (having dinner parties, flat hunting with Grace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is boyfriends provide only fleeting relationship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is relationship with Grace is problematic –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ether he will ‘become straight’ is left open in the narrative (if so, he would be with Grace) – this undermines the queer reading of the text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5" descr="http://t3.gstatic.com/images?q=tbn:mk6jHMJOF-Lt_M:http://www.h-online.nl/dvd-will-%26-grace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92880" y="0"/>
            <a:ext cx="1851120" cy="9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http://t0.gstatic.com/images?q=tbn:d_1knigGRJ1--M:http://www.post-gazette.com/images4/20060517ho_WillGrace_45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40720" y="5543640"/>
            <a:ext cx="14032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Lesbian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Never made illeg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Yet suppressed in British culture in 19</a:t>
            </a:r>
            <a:r>
              <a:rPr b="0" lang="en-GB" sz="30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 and 20</a:t>
            </a:r>
            <a:r>
              <a:rPr b="0" lang="en-GB" sz="30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 centuri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Media representations of lesbians are far less frequ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One or two notable exceptions include Sugar Rush (2005/6)and Tipping the Velvet (2002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8" name="Picture 2" descr="http://t1.gstatic.com/images?q=tbn:U0DNNAwq-3NoLM:http://www.bbc.co.uk/drama/content/images/2006/11/27/tipping_lead2_396x222.jpg"/>
          <p:cNvPicPr/>
          <p:nvPr/>
        </p:nvPicPr>
        <p:blipFill>
          <a:blip r:embed="rId1"/>
          <a:stretch/>
        </p:blipFill>
        <p:spPr>
          <a:xfrm>
            <a:off x="6735600" y="333360"/>
            <a:ext cx="20415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1eeff"/>
                </a:solidFill>
                <a:latin typeface="Consolas"/>
              </a:rPr>
              <a:t>Madonna – bringing queer theory to the mass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2" descr="http://t3.gstatic.com/images?q=tbn:78uDtXlv80znXM:http://freeringtonesnokia.com/madonna.jpg"/>
          <p:cNvPicPr/>
          <p:nvPr/>
        </p:nvPicPr>
        <p:blipFill>
          <a:blip r:embed="rId1"/>
          <a:stretch/>
        </p:blipFill>
        <p:spPr>
          <a:xfrm>
            <a:off x="3995640" y="2781360"/>
            <a:ext cx="1836720" cy="24480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4"/>
          <p:cNvSpPr/>
          <p:nvPr/>
        </p:nvSpPr>
        <p:spPr>
          <a:xfrm>
            <a:off x="6732720" y="2349360"/>
            <a:ext cx="180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culine traits – very successful  in business, seemingly in charge of her own care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5"/>
          <p:cNvSpPr/>
          <p:nvPr/>
        </p:nvSpPr>
        <p:spPr>
          <a:xfrm>
            <a:off x="5867280" y="566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rupts the ‘male gaze’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6"/>
          <p:cNvSpPr/>
          <p:nvPr/>
        </p:nvSpPr>
        <p:spPr>
          <a:xfrm>
            <a:off x="1476360" y="2852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so appropriates female constr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>
            <a:off x="1547640" y="5157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odic drag perform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In conclusion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‘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Gender trouble’ is evident everywhere in mainstream medi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Queer theorists suggest this is evidence of a move towards increasing tolerance of sexual divers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Others argue that these representations simply present alternatives to the ‘norm’ of heterosexual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Used because of their shock value, not due to any desire to promote divers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Definition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A field of critical theory that emerged in the early 1990s out of the fields of LGBT studies and feminist studies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Explores and challenges the way in which heterosexuality is constructed as normal..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And the way in which the media has limited the representations of gay men and women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Challenges the traditionally held assumptions that there is a binary divide between being gay and heterosexua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Suggests sexual identity is more flui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For example..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http://www.7dnews.com/wp-content/uploads/2009/07/jack_sparrow.jpg"/>
          <p:cNvPicPr/>
          <p:nvPr/>
        </p:nvPicPr>
        <p:blipFill>
          <a:blip r:embed="rId1"/>
          <a:stretch/>
        </p:blipFill>
        <p:spPr>
          <a:xfrm>
            <a:off x="684360" y="260280"/>
            <a:ext cx="3876480" cy="32450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5003640" y="260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ptain Jack Sparrow – Pirates of the Caribb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5003640" y="1268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ironic and over the top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6588000" y="2349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verly elaborate costume and eye make-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4716360" y="35002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s feminine and camp ges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6804000" y="436572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what we would consider ‘macho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4" descr="http://t2.gstatic.com/images?q=tbn:vQLSJeHnr1wgnM:http://ugandaninsomniac.files.wordpress.com/2008/08/russell-bran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076640"/>
            <a:ext cx="1728720" cy="241632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11"/>
          <p:cNvCxnSpPr/>
          <p:nvPr/>
        </p:nvCxnSpPr>
        <p:spPr>
          <a:xfrm flipH="1">
            <a:off x="6587640" y="836280"/>
            <a:ext cx="432720" cy="5770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385" name="Straight Arrow Connector 13"/>
          <p:cNvCxnSpPr/>
          <p:nvPr/>
        </p:nvCxnSpPr>
        <p:spPr>
          <a:xfrm>
            <a:off x="6587640" y="1988640"/>
            <a:ext cx="793080" cy="2883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386" name="Straight Arrow Connector 15"/>
          <p:cNvCxnSpPr/>
          <p:nvPr/>
        </p:nvCxnSpPr>
        <p:spPr>
          <a:xfrm flipH="1">
            <a:off x="5579640" y="2996280"/>
            <a:ext cx="937440" cy="4323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387" name="Straight Arrow Connector 17"/>
          <p:cNvCxnSpPr/>
          <p:nvPr/>
        </p:nvCxnSpPr>
        <p:spPr>
          <a:xfrm>
            <a:off x="6012000" y="4076280"/>
            <a:ext cx="792720" cy="28944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388" name="Picture 6" descr="http://t2.gstatic.com/images?q=tbn:WBdaHW-J63SH9M:http://userserve-ak.last.fm/serve/_/30489819/Noel%2BFielding%2Bnoelfielding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00360" y="4076640"/>
            <a:ext cx="1700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Judith Butler (1999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Suggests gender is not the result of nature, but is socially construct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Male and female behaviour roles are not the result of biology but are constructed and reinforced by society through media and cultur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Sees gender as a PERFORMAN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She argues that there are a number of exaggerated representations of masculinity and femininity which cause “gender trouble.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(Any behaviour or representation that disrupts culturally accepted notions of gender.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For example..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5" descr="http://t3.gstatic.com/images?q=tbn:FCE3kkNeP1JevM:http://sachafrey.files.wordpress.com/2009/11/butler1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1eeff"/>
                </a:solidFill>
                <a:latin typeface="Consolas"/>
              </a:rPr>
              <a:t>Both have built their success on subverting expected notions of femininity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rbel"/>
              </a:rPr>
              <a:t>Joss Ston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By being overtly sexual at a young ag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rbel"/>
              </a:rPr>
              <a:t>Amy Winehous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By living up to her ‘bad girl’ imag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Excessive consumption of drugs and alcoho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She mixes an excess of traditional 1950s/60s femininity by wearing retro dresses that emphasise the female shape and long hair.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with a range of tattoos that would once have been considered masculin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8" descr="joss-st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800" y="3500280"/>
            <a:ext cx="1935360" cy="2521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amy-winehou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4200" y="3500280"/>
            <a:ext cx="18925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The History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1950s – police actively enforced laws that prohibited sexual activities between me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Sexually ‘abnormal’ and ‘deviant’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1967 – homosexuality is decriminalised in UK (2009 for India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In parts of Africa and Asia today it is still punishable by dea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1977 – World Health Organisation refers to homosexuality as a mental illness (removed in 1990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Civil partnerships legal in UK from 2004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Queer theory suggests there are different ways of interpreting contemporary media texts (before decriminalization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atman and Robin (196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5" descr="http://t2.gstatic.com/images?q=tbn:atWWjN0_K9MLtM:http://1.bp.blogspot.com/_XBS3sASwLlc/TITbPXnpPOI/AAAAAAAAAJM/Yj1BJIrXcBs/s1600/Batman-and-Rob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637000"/>
            <a:ext cx="2163960" cy="1728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http://upload.wikimedia.org/wikipedia/en/thumb/7/77/Batbed.png/220px-Batbed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0240" y="3068640"/>
            <a:ext cx="4433760" cy="3789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1258920" y="5013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omo-erotic overtones...ironically camp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emporary Tex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Queer theory can also be applied to texts where heterosexuality is domina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6" name="Picture 5" descr="http://t0.gstatic.com/images?q=tbn:lUx0RD4ruOhmyM:http://www.frasieronline.co.uk/gallery/albums/userpics/10490/normal_frasier_show_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869000"/>
            <a:ext cx="1481040" cy="1800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ttp://t2.gstatic.com/images?q=tbn:ZnaGTt20WCtkpM:http://c2.api.ning.com/files/toPZYMNmtz0KSvdVcozyl4scTD9OJbFBGV-DnyV9*FOLELUcJmLioWWuVH7sdQM-cKfBKYLHJeGFoXBIFCoPmT8D6g3UUC31/friend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4581360"/>
            <a:ext cx="1590480" cy="21211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7"/>
          <p:cNvSpPr/>
          <p:nvPr/>
        </p:nvSpPr>
        <p:spPr>
          <a:xfrm>
            <a:off x="611280" y="40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si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8"/>
          <p:cNvSpPr/>
          <p:nvPr/>
        </p:nvSpPr>
        <p:spPr>
          <a:xfrm>
            <a:off x="1835280" y="314172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wo brothers, Frasier and Niles have feminine tas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2340000" y="43657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erences for fine wine, opera, designer clothes and interior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6659640" y="3429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ey and Chandler (Frie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5580000" y="4365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ongly heterosexual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12"/>
          <p:cNvSpPr/>
          <p:nvPr/>
        </p:nvSpPr>
        <p:spPr>
          <a:xfrm>
            <a:off x="4500720" y="5516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omo-erotic...an interest in each other that exceeds normal friend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4" name="Straight Arrow Connector 14"/>
          <p:cNvCxnSpPr/>
          <p:nvPr/>
        </p:nvCxnSpPr>
        <p:spPr>
          <a:xfrm flipV="1">
            <a:off x="1258920" y="3499920"/>
            <a:ext cx="505440" cy="434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5" name="Straight Arrow Connector 16"/>
          <p:cNvCxnSpPr/>
          <p:nvPr/>
        </p:nvCxnSpPr>
        <p:spPr>
          <a:xfrm>
            <a:off x="2771640" y="4076640"/>
            <a:ext cx="216720" cy="2167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6" name="Straight Arrow Connector 20"/>
          <p:cNvCxnSpPr/>
          <p:nvPr/>
        </p:nvCxnSpPr>
        <p:spPr>
          <a:xfrm flipH="1">
            <a:off x="6732000" y="4076640"/>
            <a:ext cx="432360" cy="4327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7" name="Straight Arrow Connector 22"/>
          <p:cNvCxnSpPr/>
          <p:nvPr/>
        </p:nvCxnSpPr>
        <p:spPr>
          <a:xfrm>
            <a:off x="6155280" y="5157720"/>
            <a:ext cx="432360" cy="50400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er as Folk (1999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Queer theory suggests there is now a more open and fluid approach to sexual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have been a number of changes in attitud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0" name="Picture 5" descr="http://t1.gstatic.com/images?q=tbn:0WO5OCetw86NOM:http://1.bp.blogspot.com/_CEEU2PTkVq0/TI3e0jVXkuI/AAAAAAAAB28/qoZsPzU1rYE/s1600/queer-as-folk-season-fou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933720"/>
            <a:ext cx="1836720" cy="259236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1332000" y="486900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presented gay culture in Manch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6516720" y="465300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sitive in that it represented gay culture rather than an individual chara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3" name="Straight Arrow Connector 9"/>
          <p:cNvCxnSpPr/>
          <p:nvPr/>
        </p:nvCxnSpPr>
        <p:spPr>
          <a:xfrm flipV="1">
            <a:off x="2410920" y="4507920"/>
            <a:ext cx="1297800" cy="3610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4" name="Straight Arrow Connector 13"/>
          <p:cNvCxnSpPr/>
          <p:nvPr/>
        </p:nvCxnSpPr>
        <p:spPr>
          <a:xfrm flipV="1">
            <a:off x="5867280" y="5013000"/>
            <a:ext cx="650160" cy="28800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5:02:12Z</dcterms:created>
  <dc:creator>gbrolly940</dc:creator>
  <dc:description/>
  <dc:language>en-US</dc:language>
  <cp:lastModifiedBy>Grainne</cp:lastModifiedBy>
  <dcterms:modified xsi:type="dcterms:W3CDTF">2010-11-30T19:24:59Z</dcterms:modified>
  <cp:revision>28</cp:revision>
  <dc:subject/>
  <dc:title>Queer Theory</dc:title>
</cp:coreProperties>
</file>